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39AF-57E1-4D22-AFD8-5BDB7B5F9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997-B928-4626-B313-B6C2BEF0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DC9-43FF-450F-A0A1-E52824EE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88D-639C-4B5A-B9B3-7F92E625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986-F56C-49A2-9471-90A562AD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0AE-26D3-4835-B6A5-166EB01C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DB6-6894-4122-9F4F-E2E0BCC7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E3A-56A5-4A86-8AD0-B15311BE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83B-2967-4805-8BD7-4BAFA8F6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BAC-026C-48AC-897A-E7E14375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7B1-D614-4263-9B81-267DC86F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2AF-4EC6-445F-AF03-94BD1951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BB2-1199-4C44-9F4C-3A2E3BFF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7DB7-2EA7-4A18-B8D3-6D386C3B1B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iples of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plica pla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Image25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4: Multiplication of the host cells by clo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cale fermenters by cl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genetically identical because of asexual rep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5: Extraction of desired gene produ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8376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tic engineering, also known a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combinant DNA technolo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means altering the genes in a living organism to produc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tically Modified Organism (GMO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new genotyp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ous kinds of genetic modification are possible: inserting a foreign gene from one species into another, forming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genic organ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; altering an existing gene so that its product is changed; or changing gene expression so that it is translated more often or not at al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sic steps in genetic engin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ate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sert it in a host using a v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duce as many copies of the host as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e and purify the product of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ep 1: Isolating the ge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Image24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63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1: Alternative method (using reverse transcriptase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erse transcript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NA converted into c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mentary strand produced using DNA polyme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vantage – more mRNA in cell than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2: Inserting gene into vect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4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– molecule of DNA which is used to carry a foreign gene into a  host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plasmid-text"/>
          <p:cNvPicPr/>
          <p:nvPr/>
        </p:nvPicPr>
        <p:blipFill>
          <a:blip r:embed="rId1"/>
          <a:stretch/>
        </p:blipFill>
        <p:spPr>
          <a:xfrm>
            <a:off x="4788000" y="1052640"/>
            <a:ext cx="3571920" cy="5391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pbr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Image24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3: inserting vector into ho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e worksh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Image250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3960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0:58:35Z</dcterms:created>
  <dc:creator>Matis</dc:creator>
  <dc:description/>
  <dc:language>en-US</dc:language>
  <cp:lastModifiedBy>LEGION2</cp:lastModifiedBy>
  <dcterms:modified xsi:type="dcterms:W3CDTF">2016-01-12T10:47:48Z</dcterms:modified>
  <cp:revision>9</cp:revision>
  <dc:subject/>
  <dc:title>Principles of genetic engineering</dc:title>
</cp:coreProperties>
</file>